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59706-318A-470B-9E05-DB07BADE9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5B981-9EC5-42D1-A6C8-21F7AF96F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5A133-C2A4-4B0F-ABC9-FC0E2F389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AA835-AC69-481D-9D9C-4E0DFAACF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A8A9E-E36B-4659-A5AE-10CA7AD24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B5EE1-6369-49F8-BBAC-CDA6493D3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7D098-6EDB-42A9-BFFD-C88AFDD16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25647-C404-4DDA-B92D-27D6D75BB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4C37D-D595-4F6C-BF1D-8561EC914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C2EDA-4A4D-4C0F-81DB-FE7074D10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F5FED-BA5B-48F4-B7E7-FCD89A113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03759-AFC5-4C42-956D-9BF4C18D2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5B7EA-6AD9-46CE-B25F-668D4FDC87B5}" type="datetime">
              <a:rPr b="0" lang="en-US" sz="1200" spc="-1" strike="noStrike">
                <a:solidFill>
                  <a:srgbClr val="ffffff"/>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2B422-7764-4403-9645-E141C16171E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urnitin.com/" TargetMode="External"/><Relationship Id="rId3" Type="http://schemas.openxmlformats.org/officeDocument/2006/relationships/hyperlink" Target="http://www.turnitin.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pyright &amp; Plagiarism Problems </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hannon Anderson</a:t>
            </a:r>
            <a:endParaRPr b="0" lang="en-US" sz="3200" spc="-1" strike="noStrike">
              <a:solidFill>
                <a:srgbClr val="ffffff"/>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merging Technologi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orks Cited</a:t>
            </a:r>
            <a:endParaRPr b="0" lang="en-US" sz="4400" spc="-1" strike="noStrike">
              <a:solidFill>
                <a:srgbClr val="ffffff"/>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Calibri"/>
                <a:hlinkClick r:id="rId2"/>
              </a:rPr>
              <a:t>http://www.plaigraism.org</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Calibri"/>
                <a:hlinkClick r:id="rId3"/>
              </a:rPr>
              <a:t>http://www.turnitin.com</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hat is plagiarism?</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any people think plagiarism is simply borrowing or copying someone else’s ideas.  However, it is much more serious than thi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ccording to the Merriam-Webster Online Dictionary, to "plagiarize" means</a:t>
            </a:r>
            <a:endParaRPr b="0" lang="en-US" sz="32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o steal and pass off (the ideas or words of another) as one's own</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o use (another's production) without crediting the source</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o commit literary theft</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o present a new and original idea or product derived from an existing source.</a:t>
            </a:r>
            <a:endParaRPr b="0" lang="en-US" sz="2400" spc="-1" strike="noStrike">
              <a:solidFill>
                <a:srgbClr val="ffffff"/>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n other words, plagiarism is an act of fraud. It involves both stealing someone else's work and lying about it afterward.</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an words and ideas really be stolen? </a:t>
            </a:r>
            <a:endParaRPr b="0" lang="en-US" sz="4000" spc="-1" strike="noStrike">
              <a:solidFill>
                <a:srgbClr val="ffffff"/>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ccording to U.S. law, the answer is yes. The expression of original ideas is considered intellectual property, and is protected by copyright laws, just like original inventions. Almost all forms of expression fall under copyright protection as long as they are recorded in some way (such as a book or a computer fil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All of the following are considered plagiarism:</a:t>
            </a:r>
            <a:br>
              <a:rPr sz="3600"/>
            </a:br>
            <a:endParaRPr b="0" lang="en-US" sz="2500" spc="-1" strike="noStrike">
              <a:solidFill>
                <a:srgbClr val="ffffff"/>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turning in someone else's work as your own</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copying words or ideas from someone else without giving credit</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failing to put a quotation in quotation marks</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giving incorrect information about the source of a quotation</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changing words but copying the sentence structure of a source without giving credit</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copying so many words or ideas from a source that it makes up the majority of your work, whether you give credit or not</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Turnitin</a:t>
            </a:r>
            <a:br>
              <a:rPr sz="3600"/>
            </a:br>
            <a:endParaRPr b="0" lang="en-US" sz="3600" spc="-1" strike="noStrike">
              <a:solidFill>
                <a:srgbClr val="ffffff"/>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Originality Checking allows educators to check students' work for improper citation or potential plagiarism by comparing it against continuously updated databases. Every Originality Report provides instructors with the opportunity to teach their students proper citation methods as well as to safeguard their students' academic integrit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Features &amp; Benefits</a:t>
            </a:r>
            <a:br>
              <a:rPr sz="3600"/>
            </a:br>
            <a:endParaRPr b="0" lang="en-US" sz="3600" spc="-1" strike="noStrike">
              <a:solidFill>
                <a:srgbClr val="ffffff"/>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Encourages Proper Citation</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Over 12 Billion Web Pages Crawled &amp; </a:t>
            </a:r>
            <a:r>
              <a:rPr b="0" lang="en-US" sz="2400" spc="-1" strike="noStrike">
                <a:solidFill>
                  <a:srgbClr val="ffffff"/>
                </a:solidFill>
                <a:latin typeface="Calibri"/>
              </a:rPr>
              <a:t>	</a:t>
            </a:r>
            <a:r>
              <a:rPr b="0" lang="en-US" sz="2400" spc="-1" strike="noStrike">
                <a:solidFill>
                  <a:srgbClr val="ffffff"/>
                </a:solidFill>
                <a:latin typeface="Calibri"/>
              </a:rPr>
              <a:t>Archive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Over 90 Million Student Paper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Over 12,000 Major Newspapers, Magazines &amp; Scholarly Journal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Thousands Of Books Including Literary Classic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Printable Report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Side-By-Side Comparis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7 Things Educators Should Know About Turnitin </a:t>
            </a:r>
            <a:endParaRPr b="0" lang="en-US" sz="3600" spc="-1" strike="noStrike">
              <a:solidFill>
                <a:srgbClr val="ffffff"/>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urnitin is the world’s most popular, most effective and most trusted solution for originality checking.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urnitin is not just about checking originality.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  </a:t>
            </a:r>
            <a:r>
              <a:rPr b="1" lang="en-US" sz="3600" spc="-1" strike="noStrike">
                <a:solidFill>
                  <a:srgbClr val="ffffff"/>
                </a:solidFill>
                <a:latin typeface="Calibri"/>
              </a:rPr>
              <a:t>Turnitin can be used as a </a:t>
            </a:r>
            <a:r>
              <a:rPr b="1" lang="en-US" sz="3600" spc="-1" strike="noStrike">
                <a:solidFill>
                  <a:srgbClr val="ffffff"/>
                </a:solidFill>
                <a:latin typeface="Calibri"/>
              </a:rPr>
              <a:t>	</a:t>
            </a:r>
            <a:r>
              <a:rPr b="1" lang="en-US" sz="3600" spc="-1" strike="noStrike">
                <a:solidFill>
                  <a:srgbClr val="ffffff"/>
                </a:solidFill>
                <a:latin typeface="Calibri"/>
              </a:rPr>
              <a:t>learning tool. </a:t>
            </a:r>
            <a:endParaRPr b="0" lang="en-US" sz="3600" spc="-1" strike="noStrike">
              <a:solidFill>
                <a:srgbClr val="ffffff"/>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 </a:t>
            </a:r>
            <a:r>
              <a:rPr b="1" lang="en-US" sz="3200" spc="-1" strike="noStrike">
                <a:solidFill>
                  <a:srgbClr val="ffffff"/>
                </a:solidFill>
                <a:latin typeface="Calibri"/>
              </a:rPr>
              <a:t>Turnitin performs ongoing development &amp; innovation in technology &amp; interface.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urnitin integrates with major Course Management Systems (CMS/LM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urnitin comes with FREE online training &amp; live phone suppor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urnitin has global reach.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9:02:00Z</dcterms:created>
  <dc:creator>Anderson, Shannon</dc:creator>
  <dc:description/>
  <dc:language>en-US</dc:language>
  <cp:lastModifiedBy>I mac</cp:lastModifiedBy>
  <dcterms:modified xsi:type="dcterms:W3CDTF">2009-10-26T22:48:57Z</dcterms:modified>
  <cp:revision>7</cp:revision>
  <dc:subject/>
  <dc:title>Copyright &amp; Plagairsm Problems </dc:title>
</cp:coreProperties>
</file>